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3F04-E068-42F1-9A9D-EA93381F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AA43-E814-44CB-A90F-206F43D8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C692C-E6F4-40AE-B0CC-35AA4787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849CC-8879-40CD-AA2F-2CDB8A8D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440EB-DC74-4717-8685-42F86A45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003D5-EEE7-488C-A3EE-9EF2AEAD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605CD-C713-4C76-A2A3-3D690031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C6A8C-98E8-4866-A9F9-C88B17B5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0F668-CA9B-48B6-8A62-D63D6B9A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2DB5A-4C13-4177-9C8B-1A5E9715C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F5162-DE51-4AC0-8D7C-BC10D82D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9931F-15AF-4B53-A89F-A78B5143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21C9-6721-4F28-A70F-560DEFC7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6E9CA-F4B2-4551-945D-AFE1898F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A4562-949F-405D-850D-3CDA84C8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8E4B1-3DDB-42EF-9DCF-36EEF15C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222FE-7355-4AF1-BEBC-267C75DA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55706-581E-4048-B2E9-6C999D44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FAD6B-C32A-4FDE-9B75-022CB30D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779CD-785C-4303-AA35-63A6C9F5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23A0E-C6B1-4FDE-90FC-FE23CBF0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B537B-078B-43B4-AAB2-EC0F4FB7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CB31F-8342-4EFC-B4AF-255EA1066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A335-88AF-4235-8300-3008C107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B19B4-0692-4F9D-8B02-6028DCF6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2E98D-780C-41C5-80D4-BA7F6BD3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0A94F-7631-47B7-B150-3820EF77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C8FF5-27D9-4B9B-B293-7A0475B2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83121-8666-4820-B3AB-13A69211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74F06-B204-4A57-A729-0F85E1C1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18036-9814-4A52-8AC5-8BE62BCB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810D0-E4C5-4515-8ABF-05906F7C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EF37D-B9E0-4AF9-A678-D706F5EC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ABF23-BEB4-41D4-BC3A-5AC03836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19A0-B678-4563-AF05-606E9029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48D37-6610-4CFD-B445-8004A850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8563F-5E41-4BA2-80B4-7DFCEF03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DF2D5-C707-440F-B3D6-C197A9F7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EF66C-FE75-40AB-A5DA-BCDB1CA7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70230-5945-4B57-8164-EAF4D94C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9D3EC-A3DE-4B7C-9A19-3D65D8E8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3ACA7-5DF2-4B78-B9FA-2F8281AE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DB239-698E-40E3-92E3-1B7F538B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FE563-CF6E-4DD9-87BE-26858362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8FB7B-BF0E-4D1E-BFD5-906D8C87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99B7-D7B4-4EA0-90F0-9CB4868F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E5F02-C5BF-4BCD-8DDB-3D520D58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B4E41-9E46-4678-B8AB-D86042B5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2184E-B80A-4E15-B703-1AF30D33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FF71F-2F41-4EBA-9465-3916177F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850E5-4541-4CFF-9BEE-3742DCC43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227C-7223-4E07-A1AB-84EF7783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86C1-0364-4692-B5DD-90A01763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1F33-6394-45C1-9E62-A7EEE0CE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64DC-C55D-42C5-96A9-ED254A41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C0A5-D901-431B-87B8-7031F317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2AC2-88F5-45AE-AD91-7D24576C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3F81-DAF4-41C2-9F40-81635507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09FA-3D86-40E1-BB2D-2D426CD5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B3A1-EFDE-484A-9221-3145C9E1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8360-900C-4105-8FE4-BDF85287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2298-4C8E-4E04-97E9-0351C8AD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905DB-D8B8-46A3-8E92-9CC17D92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46CBF-B4D9-4115-9C2F-FC33040E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4A132-F926-4A62-BC25-7200E53A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7F75D-DDEC-4A89-9A92-3CB1B90F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6C2D4-F7BC-459B-86F1-AD0C86D2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88AA-1BBD-44B1-8846-CF8619D4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9AD2D-0CF5-4D49-A21C-3CAE53CB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A3551-22F8-44FC-A5E2-54FC8829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A2C24-6D72-42EA-824E-029C78DE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FBA1F-21D0-40B0-86EE-B6F11B00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89151-76F9-4AC2-8B61-FA12826B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07635-1A88-479E-BC55-99C2F590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9899B-7A24-4A7E-BA0B-513DFF1C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DA375-8399-40EC-8DF6-F6FEBD7B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F23A9-BDAC-4452-962B-A4B011C2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2818C-57C2-4A8E-BDE2-542186BC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A52D-385E-46AA-8B48-7CD3AF56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255A9-8AD2-4282-94B6-80B6C3D9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40C0D-5229-4D85-8D55-2E8A33C5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67832-6208-467E-9783-DBE29EFD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291BB-B2C5-4712-A51B-C5CBF1CA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04304-6E51-494B-A8CB-17672BFB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103A2-EE3F-4DB7-B488-54C948FC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F2C20-0F02-4626-BDFA-4E3CF8FA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F23DE-329D-405E-8152-9B7BB873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CDD1D-D5A5-4928-B143-1CEE7B35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FEA0C-34DF-454A-B072-506A0765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734C-F090-4EC9-9719-EA0DC781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F5A37-393B-4C85-9020-42A24BA3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AE74E-2795-4BB1-B650-5B9B7E7E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33720-4CB4-4245-999F-04879384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48B08-B24E-4B8B-BC3D-812B85AB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7C473-EF62-4A9C-BA42-F4833EBD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D3161-8D95-4BEC-AAC1-2FD0666E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F8264-95E1-4AD9-B53E-092AECC0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B2C47-5ACA-47AC-B60B-7137081F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06494-2980-4B54-93C0-F28DB8A7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429B5-7092-4F46-A3B5-49038296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D001-797C-4CE8-BCC8-214E67F7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24F5C-4E60-47EB-B572-2F11F12F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8726B-53AD-4606-9CA3-020A2461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D82A2-7CE4-4855-8153-CD937078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6870C-9C82-4343-BE7E-300CF6B2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D6CD0-4BC5-44AD-B42F-8ACCD2BB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16F72-04BF-410B-8D1A-0CBB7D43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3FA24-2950-424E-91C6-ACDA9B4B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4BC76-44CC-44DD-A596-A4312BFF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634C5-F122-4DDC-B11E-8D478943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0CBD4-71D9-4336-B01D-42B9D32B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529C-7002-4904-B456-A505801C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6DDA6-9034-45C1-B8C5-12A37CE7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214AB-6632-4EE3-B137-B68D01AE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38F69-FEC1-431E-8EEE-2707AE92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83764-969E-47A8-8254-F383ADC1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D36EA-1B0E-407E-8D6F-04603EB1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C3D48-2DC6-4452-9D4B-07EEC719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68EBF-711B-4F89-8D09-BECABB58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A31B2-D461-4059-8F57-F7942FF9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9C8C9-8CA5-4657-97C8-F44F4593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2CF0C-CD78-408A-8BC5-F0F13B6E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E765-85B6-4DC9-AA8D-8F2C1F75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8EAE1-B5DA-4D8A-A830-06F7DD70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94E1B-55F3-4965-86D1-B0A04441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8803D-5109-43A1-B0A2-51D097B6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36368-0EEA-487D-BA5F-56E41E1F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FD651-943B-468E-B251-DC85C97D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9C1CB-8DA4-4ECB-8D40-F2B6AF20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F71AD-6E09-40E9-88CF-EAA0087B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90691-B341-4111-8C37-3F1400AF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9B1EF-4994-4D50-BEEB-200514DA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FA0E3-6AFF-45BB-A255-A4F4F0F4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C2F6-9294-4FC0-88C1-27D329E5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3FE30-108A-4AC4-A6FC-7DA82844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AA92F-86D1-494C-9A47-9C537EFF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049DA-50BA-4156-9204-4F1B65D1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A8C9B-8232-40B0-950A-68348275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FB487-CE68-47A4-B5DC-1BB18A98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FFFBA-16E4-4686-B01E-1837236A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03A46-592D-4F16-84F1-54079F91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0BD5C-1FFA-495C-9985-E77685F0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5866B-A6B3-44B4-A3DA-BCB2C126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29F89-C750-4E5F-B7C7-36EDCA27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0496-1DF5-48E6-A8C0-C6C94D7FC60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3503-8194-488C-9E07-FB36908B123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ED8E-4671-43B8-88C0-3EB0AA91D72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41AC-11A0-4530-A124-71329AB562A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C583-B60A-4902-ACB3-056B2EEF8EF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DD5F-C695-4B79-B2EC-13FDD2179FE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C958-DF38-4E98-B707-221C64B9B40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A39C-7355-467C-A500-5682045E795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1E89-EDE9-4751-9814-2FA87CDB308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EBAD-3968-46DA-9709-8660536F986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5BBF-9D90-4B53-AD69-58CAACB10F3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2CE9-5A4B-4126-817F-D602965EABF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214 Kriste, Darca zmieren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e, Darca zmieren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kala môjho spasen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tvojej láske mil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tiekam sa v úzkosti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teba živej vody prúd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dá duši zahynú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by som dňom, nocou lk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ušu v žiali vyplak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iadna ľútosť, žiadny či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zbaví ma tiesne ví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lh za hriechy, zločin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si splatil, Nevin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ry pohľad upiera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, kde mrel si za mňa s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úchom svojím prikry m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novu prijmi za syn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bav ma bôľu, trápen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ráť mi radosť spase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svoj beh tu konať sm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 tvoj kríž sa oprieť chc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keď príde smrti noc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môže ju tvoja moc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úsvit tvojho vzkriesen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iste, Skala spasenia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2-18T19:08:34Z</dcterms:modified>
  <cp:revision>21</cp:revision>
  <dc:subject/>
  <dc:title>Je veľký náš Pán, on slávy je Kráľ Nech do všetkých strán  spev vrúcnych znie chvál.</dc:title>
</cp:coreProperties>
</file>